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9590AD-FC5C-4DFD-8CFC-DCA0437C6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8"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9"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57DC25-AF37-4A45-843B-B2397A3AC4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31"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2"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3"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4"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FA8BD7-DBE4-4AFD-BBA3-6B5782E27B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36"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7"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8"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9"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0"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1"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3B29AD-EB8C-4650-8E63-24B0ADA949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45"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47"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49"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0"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54"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5"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6"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7"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456AD6-7911-4DA0-9CF8-5B6D363FD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58"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9"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0"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62"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3"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4"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66"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7"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69"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0"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1"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2"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74"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5"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6"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7"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8"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9"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83"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85"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87"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88"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9"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1C4184-644D-4A74-A31F-3035566021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92"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3"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4"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96"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7"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8"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00"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1"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2"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04"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5"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07"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8"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9"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0"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12"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3"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4"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5"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6"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7"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21"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23"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1"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2"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357AD-DECC-4A83-914F-78BD934B27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25"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26"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30"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1"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2"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34"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5"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6"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38"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9"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0"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42"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3"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45"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6"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7"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8"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50"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1"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2"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3"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4"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5"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FC829F-3FBE-46C9-8064-99B6AE7F44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59"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1"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3"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64"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8"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69"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0"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72"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3"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4"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76"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7"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8"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80"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1"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83"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4"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5"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6"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A17CFF-D6A1-43C1-9820-71DDF53C5D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88"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9"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0"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1"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2"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3"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97"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99"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01"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02"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06"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07"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08"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10"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1"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2"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14"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5"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6"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09C0E-15B3-4457-8712-241F7A6F1E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18"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9"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21"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2"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3"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4"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26"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7"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8"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9"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30"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31"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0"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819C9-8172-4288-A2A5-A5BD8127C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4"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5"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6"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AA7465-598C-40BC-B971-FE161B3A2C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410760"/>
            <a:ext cx="762804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2525"/>
                </a:solidFill>
                <a:latin typeface="Century Gothic"/>
              </a:rPr>
              <a:t>Click to edit the title text format</a:t>
            </a:r>
            <a:endParaRPr b="1" lang="en-US" sz="3600" spc="-1" strike="noStrike">
              <a:solidFill>
                <a:srgbClr val="252525"/>
              </a:solidFill>
              <a:latin typeface="Century Gothic"/>
            </a:endParaRPr>
          </a:p>
        </p:txBody>
      </p:sp>
      <p:sp>
        <p:nvSpPr>
          <p:cNvPr id="1" name="PlaceHolder 2"/>
          <p:cNvSpPr>
            <a:spLocks noGrp="1"/>
          </p:cNvSpPr>
          <p:nvPr>
            <p:ph type="body"/>
          </p:nvPr>
        </p:nvSpPr>
        <p:spPr>
          <a:xfrm>
            <a:off x="1128240" y="1066680"/>
            <a:ext cx="7626600" cy="5059440"/>
          </a:xfrm>
          <a:prstGeom prst="rect">
            <a:avLst/>
          </a:prstGeom>
          <a:noFill/>
          <a:ln w="0">
            <a:noFill/>
          </a:ln>
        </p:spPr>
        <p:txBody>
          <a:bodyPr lIns="90000" rIns="90000" tIns="46800" bIns="46800" anchor="t">
            <a:normAutofit/>
          </a:bodyPr>
          <a:p>
            <a:pPr marL="173160" indent="-17316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Click to edit the outline text format</a:t>
            </a:r>
            <a:endParaRPr b="0" lang="en-US" sz="3200" spc="-1" strike="noStrike">
              <a:solidFill>
                <a:srgbClr val="252525"/>
              </a:solidFill>
              <a:latin typeface="Century Gothic"/>
            </a:endParaRPr>
          </a:p>
          <a:p>
            <a:pPr lvl="1" marL="627120" indent="-16992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Second Outline Level</a:t>
            </a:r>
            <a:endParaRPr b="0" lang="en-US" sz="3200" spc="-1" strike="noStrike">
              <a:solidFill>
                <a:srgbClr val="252525"/>
              </a:solidFill>
              <a:latin typeface="Century Gothic"/>
            </a:endParaRPr>
          </a:p>
          <a:p>
            <a:pPr lvl="2" marL="1030320" indent="-11592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Third Outline Level</a:t>
            </a:r>
            <a:endParaRPr b="0" lang="en-US" sz="3200" spc="-1" strike="noStrike">
              <a:solidFill>
                <a:srgbClr val="252525"/>
              </a:solidFill>
              <a:latin typeface="Century Gothic"/>
            </a:endParaRPr>
          </a:p>
          <a:p>
            <a:pPr lvl="3" marL="1482840" indent="-11124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Fourth Outline Level</a:t>
            </a:r>
            <a:endParaRPr b="0" lang="en-US" sz="3200" spc="-1" strike="noStrike">
              <a:solidFill>
                <a:srgbClr val="252525"/>
              </a:solidFill>
              <a:latin typeface="Century Gothic"/>
            </a:endParaRPr>
          </a:p>
          <a:p>
            <a:pPr lvl="4" marL="1944720" indent="-11592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Fifth Outline Level</a:t>
            </a:r>
            <a:endParaRPr b="0" lang="en-US" sz="3200" spc="-1" strike="noStrike">
              <a:solidFill>
                <a:srgbClr val="252525"/>
              </a:solidFill>
              <a:latin typeface="Century Gothic"/>
            </a:endParaRPr>
          </a:p>
          <a:p>
            <a:pPr lvl="5" marL="1944720" indent="-115920">
              <a:spcBef>
                <a:spcPts val="799"/>
              </a:spcBef>
              <a:buClr>
                <a:srgbClr val="024e3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Sixth Outline Level</a:t>
            </a:r>
            <a:endParaRPr b="0" lang="en-US" sz="3200" spc="-1" strike="noStrike">
              <a:solidFill>
                <a:srgbClr val="252525"/>
              </a:solidFill>
              <a:latin typeface="Century Gothic"/>
            </a:endParaRPr>
          </a:p>
          <a:p>
            <a:pPr lvl="6" marL="1944720" indent="-115920">
              <a:spcBef>
                <a:spcPts val="799"/>
              </a:spcBef>
              <a:buClr>
                <a:srgbClr val="024e3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Seventh Outline Level</a:t>
            </a:r>
            <a:endParaRPr b="0" lang="en-US" sz="3200" spc="-1" strike="noStrike">
              <a:solidFill>
                <a:srgbClr val="252525"/>
              </a:solidFill>
              <a:latin typeface="Century Gothic"/>
            </a:endParaRPr>
          </a:p>
        </p:txBody>
      </p:sp>
      <p:sp>
        <p:nvSpPr>
          <p:cNvPr id="2" name="PlaceHolder 3"/>
          <p:cNvSpPr>
            <a:spLocks noGrp="1"/>
          </p:cNvSpPr>
          <p:nvPr>
            <p:ph type="ftr" idx="1"/>
          </p:nvPr>
        </p:nvSpPr>
        <p:spPr>
          <a:xfrm>
            <a:off x="6171840" y="6568560"/>
            <a:ext cx="28954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24e35"/>
              </a:solidFill>
              <a:latin typeface="Century Gothic"/>
            </a:endParaRPr>
          </a:p>
        </p:txBody>
      </p:sp>
      <p:sp>
        <p:nvSpPr>
          <p:cNvPr id="3" name="PlaceHolder 4"/>
          <p:cNvSpPr>
            <a:spLocks noGrp="1"/>
          </p:cNvSpPr>
          <p:nvPr>
            <p:ph type="sldNum" idx="2"/>
          </p:nvPr>
        </p:nvSpPr>
        <p:spPr>
          <a:xfrm>
            <a:off x="76320" y="6637320"/>
            <a:ext cx="21333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13131"/>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AECF-A07B-46C0-AC64-A69A2304FB7C}" type="slidenum">
              <a:rPr b="1" lang="en-US" sz="1200" spc="-1" strike="noStrike">
                <a:solidFill>
                  <a:srgbClr val="313131"/>
                </a:solidFill>
                <a:latin typeface="Segoe UI"/>
                <a:ea typeface="Segoe UI"/>
              </a:rPr>
              <a:t>&lt;number&gt;</a:t>
            </a:fld>
            <a:endParaRPr b="0" lang="en-US" sz="1200" spc="-1" strike="noStrike">
              <a:solidFill>
                <a:srgbClr val="000000"/>
              </a:solidFill>
              <a:latin typeface="Times New Roman"/>
            </a:endParaRPr>
          </a:p>
        </p:txBody>
      </p:sp>
      <p:sp>
        <p:nvSpPr>
          <p:cNvPr id="4" name="TextBox 6"/>
          <p:cNvSpPr/>
          <p:nvPr/>
        </p:nvSpPr>
        <p:spPr>
          <a:xfrm>
            <a:off x="5257800" y="2895480"/>
            <a:ext cx="12193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24e35"/>
              </a:solidFill>
              <a:latin typeface="Century Gothic"/>
            </a:endParaRPr>
          </a:p>
        </p:txBody>
      </p:sp>
      <p:sp>
        <p:nvSpPr>
          <p:cNvPr id="5" name="TextBox 7"/>
          <p:cNvSpPr/>
          <p:nvPr/>
        </p:nvSpPr>
        <p:spPr>
          <a:xfrm>
            <a:off x="5410080" y="2666880"/>
            <a:ext cx="14479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24e35"/>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42"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43"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80"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81"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118"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119"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156"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157"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194"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195"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703760"/>
            <a:ext cx="8686800" cy="860400"/>
          </a:xfrm>
          <a:prstGeom prst="rect">
            <a:avLst/>
          </a:prstGeom>
          <a:solidFill>
            <a:srgbClr val="ffffff"/>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 </a:t>
            </a:r>
            <a:br>
              <a:rPr sz="4000"/>
            </a:br>
            <a:r>
              <a:rPr b="1" lang="en-US" sz="4000" spc="-1" strike="noStrike">
                <a:solidFill>
                  <a:srgbClr val="252525"/>
                </a:solidFill>
                <a:latin typeface="Century Gothic"/>
              </a:rPr>
              <a:t>The Millionaire Game</a:t>
            </a:r>
            <a:endParaRPr b="1" lang="en-US" sz="4000" spc="-1" strike="noStrike">
              <a:solidFill>
                <a:srgbClr val="252525"/>
              </a:solidFill>
              <a:latin typeface="Century Gothic"/>
            </a:endParaRPr>
          </a:p>
        </p:txBody>
      </p:sp>
      <p:sp>
        <p:nvSpPr>
          <p:cNvPr id="233" name="PlaceHolder 2"/>
          <p:cNvSpPr>
            <a:spLocks noGrp="1"/>
          </p:cNvSpPr>
          <p:nvPr>
            <p:ph type="subTitle"/>
          </p:nvPr>
        </p:nvSpPr>
        <p:spPr>
          <a:xfrm>
            <a:off x="457200" y="5486040"/>
            <a:ext cx="8686800" cy="800280"/>
          </a:xfrm>
          <a:prstGeom prst="rect">
            <a:avLst/>
          </a:prstGeom>
          <a:solidFill>
            <a:srgbClr val="ffffff"/>
          </a:solidFill>
          <a:ln w="9360">
            <a:solidFill>
              <a:srgbClr val="000000"/>
            </a:solidFill>
            <a:miter/>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525"/>
                </a:solidFill>
                <a:latin typeface="Century Gothic"/>
              </a:rPr>
              <a:t>some basic principles for getting rich and living a more satisfying life</a:t>
            </a:r>
            <a:endParaRPr b="0" lang="en-US" sz="2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12372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5. More millionaires drive Fords than Cadillac'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30477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Ford is preferred by 9.4 percent and Cadillac by 8.8 percent. Lincoln comes in third at 7.8 percent. Only 23 percent of millionaires drive a current-year (new) car.</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6. Most millionaires work in glamorous jobs, such as sports, entertainment, or high tech.</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32000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A majority of millionaires are in ordinary industries and jobs. They are proficient in targeting marketing opportunitie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289512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7. Most millionaires work for big Fortune 500 companie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32763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About three out of four millionaires are self employed and consider themselves to be entrepreneurs. Most of the others are professionals, such as doctors, accountants, and lawyer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358092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8. Many poor people become millionaires by winning the lottery.</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342864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4e35"/>
                </a:solidFill>
                <a:latin typeface="Century Gothic"/>
              </a:rPr>
              <a:t>False. </a:t>
            </a:r>
            <a:r>
              <a:rPr b="0" i="1" lang="en-US" sz="2800" spc="-1" strike="noStrike">
                <a:solidFill>
                  <a:srgbClr val="024e35"/>
                </a:solidFill>
                <a:latin typeface="Century Gothic"/>
              </a:rPr>
              <a:t>Few people get rich the easy way</a:t>
            </a:r>
            <a:r>
              <a:rPr b="0" lang="en-US" sz="2800" spc="-1" strike="noStrike">
                <a:solidFill>
                  <a:srgbClr val="024e35"/>
                </a:solidFill>
                <a:latin typeface="Century Gothic"/>
              </a:rPr>
              <a:t>. </a:t>
            </a:r>
            <a:br>
              <a:rPr sz="2800"/>
            </a:br>
            <a:br>
              <a:rPr sz="2800"/>
            </a:br>
            <a:r>
              <a:rPr b="0" lang="en-US" sz="2800" spc="-1" strike="noStrike">
                <a:solidFill>
                  <a:srgbClr val="024e35"/>
                </a:solidFill>
                <a:latin typeface="Century Gothic"/>
              </a:rPr>
              <a:t>If you play the lottery, the chances of winning are about one in 12 million. The average person who plays the lottery every day would have to live about 33,000 years to win once. In contrast, you have a one in 1.9 million chance of being struck by lightning. A pregnant woman has one chance in 705,000 births to have quadruplets. How many sets of quadruplets do you know?</a:t>
            </a:r>
            <a:br>
              <a:rPr sz="28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30477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9. College graduates earn about 65 percent more than high school graduates earn.</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32763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In recent years, the average college graduate earned 66 percent more than the average high school graduate did. People with professional degrees earned 150 percent more than high school graduates did.</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4" name="Rectangle 4"/>
          <p:cNvSpPr/>
          <p:nvPr/>
        </p:nvSpPr>
        <p:spPr>
          <a:xfrm>
            <a:off x="2209680" y="2438280"/>
            <a:ext cx="5486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1. Most millionaires are college graduates.</a:t>
            </a:r>
            <a:endParaRPr b="0" lang="en-US" sz="3200" spc="-1" strike="noStrike">
              <a:solidFill>
                <a:srgbClr val="024e35"/>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50496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10. If an average 18-year-old high school graduate spends as much as an average high school dropout until both are 67 years old, but the high school graduate invests the difference in his or her earnings at eight percent annual interest, the high school graduate would have $5,500,000.</a:t>
            </a:r>
            <a:br>
              <a:rPr sz="32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350496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True. </a:t>
            </a:r>
            <a:r>
              <a:rPr b="0" lang="en-US" sz="3200" spc="-1" strike="noStrike">
                <a:solidFill>
                  <a:srgbClr val="024e35"/>
                </a:solidFill>
                <a:latin typeface="Century Gothic"/>
              </a:rPr>
              <a:t>Of course, a normal person would spend some of the difference, but it is a dramatic illustration of how valuable a high school diploma is. The difference in earnings between a high school graduate and a high school dropout is $8000 at age 18. </a:t>
            </a:r>
            <a:br>
              <a:rPr sz="3200"/>
            </a:br>
            <a:br>
              <a:rPr sz="3200"/>
            </a:br>
            <a:r>
              <a:rPr b="0" lang="en-US" sz="1800" spc="-1" strike="noStrike">
                <a:solidFill>
                  <a:srgbClr val="024e35"/>
                </a:solidFill>
                <a:latin typeface="Century Gothic"/>
              </a:rPr>
              <a:t>The illustration assumes the difference increases by 1.5 percent each year and that the difference is invested at eight percent interest each year.</a:t>
            </a:r>
            <a:br>
              <a:rPr sz="18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1. Day traders usually beat the stock market and many of them become millionaire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Recent studies show that 80 percent of day traders lose money.</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2. If you want to be a millionaire, avoid the risky stock market.</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335232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False. </a:t>
            </a:r>
            <a:r>
              <a:rPr b="0" lang="en-US" sz="2400" spc="-1" strike="noStrike">
                <a:solidFill>
                  <a:srgbClr val="024e35"/>
                </a:solidFill>
                <a:latin typeface="Century Gothic"/>
              </a:rPr>
              <a:t>Long term (starting in 1926 and including the Great Depression), the Standard &amp; Poor’s 500 Stock Index has increased at about an 11% compound annual rate of return, exceeding the return on any other investment. Of course, there is risk. The stock market has down years, and there is no guarantee of an 11% return in the future, especially in the short run. In contrast, the long-term return on risk-free U.S. government securities during the same period ranged from 5-6%. The actual return depended on the term of the bond. Another way of looking at this is that $1.00 invested in the S&amp;P 500 on January 1, 1926, was worth $1,828 on December 31, 1997. One dollar invested in long-term government bonds during the same period was worth $39 on December 31, 1997. It probably paid to take the additional risk of buying stocks.</a:t>
            </a:r>
            <a:br>
              <a:rPr sz="2400"/>
            </a:br>
            <a:endParaRPr b="1" lang="en-US" sz="24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32763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3. At age 18, you decide not to smoke and save $1.50 a day. You invest this $1.50 a day at eight percent annual interest until you are 67. At age 67, your savings from not smoking are almost $300,000.</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2640" y="312372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Because of the power of compound interest, small savings can make a difference. It pays to resist temptation and live below your mean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289512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4. If you save $2000 a year from age 22 to age 65 at eight percent annual interest, your savings will be over $700,000 at age 65.</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Because of the power of compound interest, the earlier you begin saving, the better. Regular saving will make you a millionaire, even if your salary is modest. </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5600" y="41076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
        <p:nvSpPr>
          <p:cNvPr id="236" name=""/>
          <p:cNvSpPr txBox="1"/>
          <p:nvPr/>
        </p:nvSpPr>
        <p:spPr>
          <a:xfrm>
            <a:off x="914400" y="1143000"/>
            <a:ext cx="7626240" cy="5059440"/>
          </a:xfrm>
          <a:prstGeom prst="rect">
            <a:avLst/>
          </a:prstGeom>
          <a:noFill/>
          <a:ln w="0">
            <a:noFill/>
          </a:ln>
        </p:spPr>
        <p:txBody>
          <a:bodyPr anchor="t">
            <a:normAutofit/>
          </a:bodyPr>
          <a:p>
            <a:pPr marL="173160" indent="-17316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True</a:t>
            </a:r>
            <a:r>
              <a:rPr b="0" lang="en-US" sz="3200" spc="-1" strike="noStrike">
                <a:solidFill>
                  <a:srgbClr val="024e35"/>
                </a:solidFill>
                <a:latin typeface="Century Gothic"/>
              </a:rPr>
              <a:t>. Four of five millionaires are college graduates. Eighteen percent have Master’s degrees, eight percent law degrees, six percent medical degrees, and six percent Ph.D.s.</a:t>
            </a:r>
            <a:endParaRPr b="0" lang="en-US" sz="32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274284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5. Single people are more often millionaires than married people.</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2971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Most millionaires are married and stay married. By contrast, divorce is a gateway to poverty. Financially speaking, divorce is something you want to avoid, particularly after you have children. It is important to choose a marriage partner carefully.</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2. Most millionaires work fewer than 40 hours a week.</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About 2/3 of millionaires work 45-55 hours a week.</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28191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3. More than half of all millionaires never received money from a trust fund or estate.</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320004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Only 19 percent of millionaires received any income or wealth of any kind from a trust fund or an estate. Fewer than 10 percent of millionaires inherited 10 percent or more of their wealth.</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28191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4. More millionaires have American Express Gold Cards than Sears card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2000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Only 28.6 percent of millionaires have American Express Gold Cards while 43 percent have sears credit cards. Only 6.2 percent of millionaires have American Express Platinum Card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4:09:33Z</dcterms:created>
  <dc:creator>admin</dc:creator>
  <dc:description/>
  <dc:language>en-US</dc:language>
  <cp:lastModifiedBy>ASD</cp:lastModifiedBy>
  <dcterms:modified xsi:type="dcterms:W3CDTF">2011-06-06T17:20:11Z</dcterms:modified>
  <cp:revision>4</cp:revision>
  <dc:subject/>
  <dc:title>  The Millionaire Game</dc:title>
</cp:coreProperties>
</file>